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3.jpeg" ContentType="image/jpeg"/>
  <Override PartName="/ppt/media/drumroll.wav" ContentType="audio/x-wav"/>
  <Override PartName="/ppt/media/image24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18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hammer.wav" ContentType="audio/x-wav"/>
  <Override PartName="/ppt/media/image10.gif" ContentType="image/gif"/>
  <Override PartName="/ppt/media/image9.png" ContentType="image/png"/>
  <Override PartName="/ppt/media/image11.gif" ContentType="image/gif"/>
  <Override PartName="/ppt/media/image27.jpeg" ContentType="image/jpeg"/>
  <Override PartName="/ppt/media/image22.gif" ContentType="image/gif"/>
  <Override PartName="/ppt/media/image2.png" ContentType="image/png"/>
  <Override PartName="/ppt/media/image25.jpeg" ContentType="image/jpeg"/>
  <Override PartName="/ppt/media/image13.gif" ContentType="image/gif"/>
  <Override PartName="/ppt/media/image16.jpeg" ContentType="image/jpeg"/>
  <Override PartName="/ppt/media/image1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19.gif" ContentType="image/gif"/>
  <Override PartName="/ppt/media/chimes.wav" ContentType="audio/x-wav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5EC-9883-4D2C-ACEA-2A09341F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DFF-D1F8-4647-9BB6-7DB062AF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3F50-38B6-441B-A403-A4BC1F16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2319-A7F6-461D-B3D1-F97C28969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FD2-3360-4203-9B64-4650F730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7AB-5FF1-45EB-8890-F8DD1D3F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9A7-BD08-41F3-92D1-806AD58C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BDE-3CAA-4D60-9464-88D98AEB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A95-1E4F-45D7-8C71-F13F86B5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113-2118-47EF-ABB2-8C0A692D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487-6277-4B5A-A8B8-DCB9AAA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4AF-2A47-4F34-BC65-6EDDC132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166E2-6CBC-4F32-8F39-120856754D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cn.alibaba.com/athena/sampledetail/yurunncp-10307509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10.gif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61144" t="9868" r="-22874" b="13770"/>
          <a:stretch/>
        </p:blipFill>
        <p:spPr>
          <a:xfrm>
            <a:off x="385128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9600" y="2060640"/>
            <a:ext cx="127764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楷体_GB2312"/>
              </a:rPr>
              <a:t>槐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乡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476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4400" y="3573360"/>
            <a:ext cx="115524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制作教师：刘丽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84360" y="213372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1" name="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" name=""/>
          <p:cNvSpPr/>
          <p:nvPr/>
        </p:nvSpPr>
        <p:spPr>
          <a:xfrm>
            <a:off x="1042920" y="662040"/>
            <a:ext cx="7489800" cy="374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自学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   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请同学们认真朗读课文，遇到不认识的字利用工具书或同桌解决，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5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分钟后比谁课文读得正确、流利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920" y="476280"/>
            <a:ext cx="9145440" cy="62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āo     rǎn    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d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sā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花苞   染料   耷拉  塞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ì         lǚ    chuī             dàng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觅食  缕缕炊烟　 飘 荡   柳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ān       mó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zà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米粒般     磨好   满载而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-1390680"/>
            <a:ext cx="9972720" cy="9639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782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5280" y="582480"/>
            <a:ext cx="8353440" cy="572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997360"/>
            <a:ext cx="4067280" cy="30002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4325760" cy="2951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1332000" y="692280"/>
            <a:ext cx="518328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柳梢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43280" y="4983120"/>
            <a:ext cx="3168720" cy="1877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700" spc="-1" strike="noStrike">
                <a:solidFill>
                  <a:srgbClr val="ffffff"/>
                </a:solidFill>
                <a:latin typeface="Arial"/>
                <a:ea typeface="楷体_GB2312"/>
              </a:rPr>
              <a:t>染料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61144" t="9868" r="-22874" b="13770"/>
          <a:stretch/>
        </p:blipFill>
        <p:spPr>
          <a:xfrm>
            <a:off x="3851280" y="0"/>
            <a:ext cx="910764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19600" y="2060640"/>
            <a:ext cx="1277640" cy="64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ff"/>
                </a:solidFill>
                <a:latin typeface="Arial"/>
                <a:ea typeface="楷体_GB2312"/>
              </a:rPr>
              <a:t>槐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乡的孩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58920" y="476280"/>
            <a:ext cx="14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*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64400" y="3573360"/>
            <a:ext cx="115524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制作教师：刘丽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54560" y="0"/>
            <a:ext cx="5689440" cy="3166920"/>
          </a:xfrm>
          <a:prstGeom prst="wedgeRoundRectCallout">
            <a:avLst>
              <a:gd name="adj1" fmla="val -61189"/>
              <a:gd name="adj2" fmla="val 92055"/>
              <a:gd name="adj3" fmla="val 16667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槐树，一般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。在每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—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间开花，花淡黄色，能散发出淡淡的清香，我的花苞米粒般大小，你们想不想看看我的花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课文内容，从小树立热爱劳动的观念，体会一些词句表情达意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能认清下面的字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槐（      ）   拉（      ）  散（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愧（      ）   粒（      ）  撒（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漂（      ）    翅（      ）  捡（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飘（      ）    翘（      ）  检（ 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21160" y="1419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槐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6248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惭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35800" y="1419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推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384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米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084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散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37760" y="2205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撒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62480" y="37958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漂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62480" y="45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飘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80520" y="3860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翅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80520" y="4646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翘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82400" y="378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捡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82480" y="465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检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flipH="1">
            <a:off x="6227640" y="0"/>
            <a:ext cx="2376720" cy="2060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1557360"/>
            <a:ext cx="959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学指导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请同学们认真读课文，思考：课文讲了一件什么事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分钟后交流，比谁得表现最出色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16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76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17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84" name="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1403280" y="1052640"/>
            <a:ext cx="597708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课文主要讲了生活在槐乡的孩子们顶着酷暑采摘槐米的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539640" y="1413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读了课文，槐乡的孩子给你留下了什么样的印象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00000" y="2484000"/>
            <a:ext cx="7775640" cy="80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勤劳的槐乡孩子是不向爸爸妈妈伸手要钱的，他们上学的钱是用槐米换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7667640" y="6165720"/>
            <a:ext cx="5047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4005360"/>
            <a:ext cx="5040360" cy="2303280"/>
          </a:xfrm>
          <a:prstGeom prst="wedgeRoundRectCallout">
            <a:avLst>
              <a:gd name="adj1" fmla="val -25620"/>
              <a:gd name="adj2" fmla="val -75708"/>
              <a:gd name="adj3" fmla="val 16667"/>
            </a:avLst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槐乡的孩子真勤劳啊！用自己的劳动来赚钱，不让爸爸妈妈操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77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770" fill="hold"/>
                                        <p:tgtEl>
                                          <p:spTgt spid="2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406160"/>
            <a:ext cx="8856720" cy="80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八月，天多热。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鸡热得耷拉着翅膀，狗热得吐出舌头，蝉热得不知如何是好，在树上不停地叫着“知了，知了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7667640" y="6165720"/>
            <a:ext cx="5047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332000" y="3646440"/>
            <a:ext cx="6408720" cy="2806920"/>
          </a:xfrm>
          <a:prstGeom prst="wedgeRoundRectCallout">
            <a:avLst>
              <a:gd name="adj1" fmla="val -37"/>
              <a:gd name="adj2" fmla="val -72851"/>
              <a:gd name="adj3" fmla="val 16667"/>
            </a:avLst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通过鸡、狗、蝉来体现天气热，我更感受到了槐乡孩子并不是真不怕热，而是勤劳带给他们快乐，把热都给 忘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槐乡的孩子可不怕热，他们</a:t>
            </a:r>
            <a:r>
              <a:rPr b="0" i="1" lang="zh-CN" sz="3200" spc="-1" strike="noStrike">
                <a:solidFill>
                  <a:srgbClr val="cc3300"/>
                </a:solidFill>
                <a:latin typeface="Arial"/>
              </a:rPr>
              <a:t>背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水葫芦，</a:t>
            </a:r>
            <a:r>
              <a:rPr b="0" i="1" lang="zh-CN" sz="3200" spc="-1" strike="noStrike">
                <a:solidFill>
                  <a:srgbClr val="cc3300"/>
                </a:solidFill>
                <a:latin typeface="Arial"/>
              </a:rPr>
              <a:t>带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干粮，没等</a:t>
            </a:r>
            <a:r>
              <a:rPr b="0" i="1" lang="zh-CN" sz="3200" spc="-1" strike="noStrike">
                <a:solidFill>
                  <a:srgbClr val="cc3300"/>
                </a:solidFill>
                <a:latin typeface="Arial"/>
              </a:rPr>
              <a:t>云雀开口歌唱黎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就</a:t>
            </a:r>
            <a:r>
              <a:rPr b="0" i="1" lang="zh-CN" sz="3200" spc="-1" strike="noStrike">
                <a:solidFill>
                  <a:srgbClr val="cc3300"/>
                </a:solidFill>
                <a:latin typeface="Arial"/>
              </a:rPr>
              <a:t>已经爬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山上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546280" y="3203640"/>
            <a:ext cx="4524480" cy="30495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 rot="5400000">
            <a:off x="-839880" y="4209840"/>
            <a:ext cx="3168720" cy="1028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云雀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11" name=""/>
          <p:cNvSpPr/>
          <p:nvPr/>
        </p:nvSpPr>
        <p:spPr>
          <a:xfrm>
            <a:off x="7956720" y="3213000"/>
            <a:ext cx="9158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76280" y="4508640"/>
            <a:ext cx="1081080" cy="4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1547280"/>
            <a:ext cx="7632720" cy="80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槐乡的孩子可不怕热，他们背着水葫芦，带着干粮，没等云雀开口歌唱黎明，就已经爬到小山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rId2" action="ppaction://hlinksldjump"/>
          </p:cNvPr>
          <p:cNvSpPr/>
          <p:nvPr/>
        </p:nvSpPr>
        <p:spPr>
          <a:xfrm>
            <a:off x="7667640" y="6165720"/>
            <a:ext cx="504720" cy="35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43280" y="4076640"/>
            <a:ext cx="5689440" cy="2376720"/>
          </a:xfrm>
          <a:prstGeom prst="wedgeRoundRectCallout">
            <a:avLst>
              <a:gd name="adj1" fmla="val -30944"/>
              <a:gd name="adj2" fmla="val -74916"/>
              <a:gd name="adj3" fmla="val 16667"/>
            </a:avLst>
          </a:prstGeom>
          <a:solidFill>
            <a:srgbClr val="fd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云雀都没有开口歌唱黎明”，从这里我读懂了时间还很早，可槐乡的孩子已经出来劳动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392720" cy="4680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148360" y="404640"/>
            <a:ext cx="3400200" cy="4681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771640" y="5445000"/>
            <a:ext cx="2952720" cy="10994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水葫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40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1280" y="836640"/>
            <a:ext cx="5292720" cy="3456000"/>
          </a:xfrm>
          <a:prstGeom prst="cloudCallout">
            <a:avLst>
              <a:gd name="adj1" fmla="val -58546"/>
              <a:gd name="adj2" fmla="val 595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叫槐花，人们又常称我为“槐米”。我的花和果实可以入药，还可以做染料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31640" y="122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男孩常常是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树上，用长长的钩刀一下又一下地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槐米。一簇簇槐米落下来了。女孩有的弯腰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两条鞭子像蜻蜓的翅膀，上下飞舞着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的往篮里</a:t>
            </a: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槐米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头一点一点的，像觅食的小鸭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找孩子们摘槐米时的动作的字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运用修辞手法的句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990720" y="457200"/>
            <a:ext cx="739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当缕缕炊烟从村中升起的时候，孩子们满载而归，田野里飘荡着他们快乐的歌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10666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满载而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2819520"/>
            <a:ext cx="74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槐乡孩子的篮子里满载着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满载着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满载着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 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258920" y="148428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198900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月落柳梢，劳累了一天的孩子们带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甜蜜的微笑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入梦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006560" y="4581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他们在梦里梦见了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　　　　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161160" y="3005280"/>
            <a:ext cx="38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这是一份————的快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8920" cy="6885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95280" y="1773360"/>
            <a:ext cx="8459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快乐不只来自于休闲、享乐，劳动中也有无穷的乐趣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有付出艰辛的劳动，才能得到丰厚的回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918080" y="309600"/>
            <a:ext cx="5403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勤劳的槐乡孩子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向爸爸妈妈伸手要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他们上学的钱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用槐米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22760" y="1557360"/>
            <a:ext cx="5403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槐乡的孩子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不怕热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，他们背着水葫芦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带着干粮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没等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云雀开口歌唱黎明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就已经</a:t>
            </a: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到小山上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303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2040" y="449568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6600" y="3246480"/>
            <a:ext cx="847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缕缕炊烟从村中升起的时候，孩子们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满载而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田野里飘荡着他们快乐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歌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67480" y="2354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66800" y="8431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勤劳懂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20640" y="2500200"/>
            <a:ext cx="181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669900"/>
                </a:solidFill>
                <a:latin typeface="Arial"/>
              </a:rPr>
              <a:t>吃苦耐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01360" y="45165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苦为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04920" y="1989000"/>
            <a:ext cx="632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孩子们的小床下放着篮子和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磨好的长钩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明天，只要是晴天，孩子们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投入到火热的劳动中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76920" y="2590920"/>
            <a:ext cx="121896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后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00600" y="2590920"/>
            <a:ext cx="175248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再后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41400" y="1322280"/>
            <a:ext cx="1725480" cy="35424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0" y="549360"/>
            <a:ext cx="9143640" cy="6801840"/>
            <a:chOff x="0" y="549360"/>
            <a:chExt cx="9143640" cy="6801840"/>
          </a:xfrm>
        </p:grpSpPr>
        <p:sp>
          <p:nvSpPr>
            <p:cNvPr id="52" name=""/>
            <p:cNvSpPr/>
            <p:nvPr/>
          </p:nvSpPr>
          <p:spPr>
            <a:xfrm>
              <a:off x="3468240" y="6832440"/>
              <a:ext cx="1891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0" y="549360"/>
              <a:ext cx="4241160" cy="628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4653000" y="549360"/>
              <a:ext cx="4490640" cy="62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4175280" y="0"/>
            <a:ext cx="4968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cc"/>
                </a:solidFill>
                <a:latin typeface="Arial"/>
              </a:rPr>
              <a:t>夏季花未开放时，采其花蕾，称为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槐米</a:t>
            </a:r>
            <a:r>
              <a:rPr b="1" lang="zh-CN" sz="2800" spc="-1" strike="noStrike">
                <a:solidFill>
                  <a:srgbClr val="00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35480" y="5641920"/>
            <a:ext cx="3189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0" t="0" r="0" b="8982"/>
          <a:stretch/>
        </p:blipFill>
        <p:spPr>
          <a:xfrm>
            <a:off x="611280" y="0"/>
            <a:ext cx="2903400" cy="4653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898360" y="5445000"/>
            <a:ext cx="34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槐米：槐树的花蕾称“槐花”或“槐米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rcRect l="0" t="0" r="0" b="7465"/>
          <a:stretch/>
        </p:blipFill>
        <p:spPr>
          <a:xfrm>
            <a:off x="3995640" y="83664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6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9" name="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7" name="" descr=""/>
            <p:cNvPicPr/>
            <p:nvPr/>
          </p:nvPicPr>
          <p:blipFill>
            <a:blip r:embed="rId15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16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17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18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19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0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1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22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3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4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5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26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9" name="" descr=""/>
          <p:cNvPicPr/>
          <p:nvPr/>
        </p:nvPicPr>
        <p:blipFill>
          <a:blip r:embed="rId27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8840" y="662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03280" y="2997360"/>
            <a:ext cx="7201080" cy="237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槐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</a:t>
            </a:r>
            <a:r>
              <a:rPr b="0" lang="zh-CN" sz="1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惭</a:t>
            </a:r>
            <a:r>
              <a:rPr b="0" lang="zh-CN" sz="150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愧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1627200"/>
            <a:ext cx="6193080" cy="10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00ff"/>
                </a:solidFill>
                <a:latin typeface="宋体"/>
              </a:rPr>
              <a:t>huái       kuì</a:t>
            </a:r>
            <a:r>
              <a:rPr b="0" lang="zh-CN" sz="6200" spc="-1" strike="noStrike">
                <a:solidFill>
                  <a:srgbClr val="333399"/>
                </a:solidFill>
                <a:latin typeface="宋体"/>
              </a:rPr>
              <a:t>      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979640" y="4365720"/>
            <a:ext cx="5832360" cy="1511280"/>
          </a:xfrm>
          <a:prstGeom prst="cloudCallout">
            <a:avLst>
              <a:gd name="adj1" fmla="val -49291"/>
              <a:gd name="adj2" fmla="val 815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是什么意思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620640"/>
            <a:ext cx="2232000" cy="3263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140360" y="333360"/>
            <a:ext cx="2952720" cy="1236600"/>
            <a:chOff x="4140360" y="333360"/>
            <a:chExt cx="2952720" cy="1236600"/>
          </a:xfrm>
        </p:grpSpPr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4140360" y="333360"/>
              <a:ext cx="108108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364360" y="692280"/>
              <a:ext cx="172872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3366ff"/>
                  </a:solidFill>
                  <a:latin typeface="Times New Roman"/>
                  <a:ea typeface="华文琥珀"/>
                </a:rPr>
                <a:t>我来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311640" y="1773360"/>
            <a:ext cx="5832360" cy="1511280"/>
          </a:xfrm>
          <a:prstGeom prst="cloudCallout">
            <a:avLst>
              <a:gd name="adj1" fmla="val -49291"/>
              <a:gd name="adj2" fmla="val 8151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这种符号表示是略读课文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62880" y="-243000"/>
            <a:ext cx="1581120" cy="15811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700280"/>
            <a:ext cx="7775640" cy="2168640"/>
          </a:xfrm>
          <a:prstGeom prst="rect">
            <a:avLst/>
          </a:prstGeom>
          <a:solidFill>
            <a:srgbClr val="a7c5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略读课文学习方法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幼圆"/>
                <a:ea typeface="幼圆"/>
              </a:rPr>
              <a:t>通过朗读、质疑、思考、讨论，读懂课文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  <p:sndAc>
      <p:stSnd>
        <p:snd r:embed="rId3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5075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能正确、流利有感情地朗读课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理解课文内容，从小树立热爱劳动的观念，体会一些词句表情达意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07:34:36Z</dcterms:created>
  <dc:creator>NOTEBOOK</dc:creator>
  <dc:description/>
  <dc:language>en-US</dc:language>
  <cp:lastModifiedBy>微软用户</cp:lastModifiedBy>
  <dcterms:modified xsi:type="dcterms:W3CDTF">2014-08-31T01:46:25Z</dcterms:modified>
  <cp:revision>31</cp:revision>
  <dc:subject/>
  <dc:title>幻灯片 1</dc:title>
</cp:coreProperties>
</file>